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694-7CCC-4EA1-9B0E-CA7051FE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226-678C-46D4-8BC6-4FC5B78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3D0-FA0B-462D-93F5-0E0EAAB2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CEF-3710-4E63-8FA1-B75DD9BE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1910-4B43-4FD5-9952-C5C4626A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8251-AAEE-4B76-BEF1-3301C759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7D2A-C895-42DD-B92A-E1214542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9DC7-F87A-499A-B44F-87B8890F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1AB9-4BFB-40D9-9969-AAEBF09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FE0F-DE1E-4C3B-A787-D17E95E0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3ED5-835A-4D54-B0FA-7427338C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6CF-A847-45D5-BFE4-55AD17D7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95F7-0755-4AF5-934F-87FABC8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3EDD-9C22-4118-A532-943BC69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63FB-7093-4628-BAC7-2968B68E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4041-A115-43D4-BD4B-AE08D9AB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0734-3E49-449C-83A6-57022E3E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FA0-F8D4-4686-BD4D-8591ED63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72D-292B-4A17-A29A-BE3012E5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9D7-886F-4CFC-8304-4B92269B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3EF-C938-4554-836A-AA142C88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C27-1CE9-405A-B6E4-287E1ED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C37-A0D1-4359-9259-3B9338F1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F41-90E4-45F7-A307-638D81B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EEC6-784D-447E-AF22-A55E8ECBE0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B03D-C4A0-4D77-A17E-5BB0A9656D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Give Us A King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rter 5, Lesson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 Sam.18-1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ges 90-9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ttle Between David and Absalom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18:1-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6476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sent out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organized his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wanted to go to battle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nted Absalom sp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warriors preva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slaughter (20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st devoured even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ttle Between David and Absalom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9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got caught in a tree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ab told of the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and his men kill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returned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bur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867280" y="4419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on of Absalom’s De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666520" y="3047760"/>
            <a:ext cx="312444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31080" y="380880"/>
            <a:ext cx="1998360" cy="2667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943600" y="32004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ditional Monument of Absalom’s burial place in 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vid’s Mourning Affects Other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18:19-33 – 19:1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is told of the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imaaz and Cushi were messen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imaaz re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hi re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ourned for Abs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rebuked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congratulated the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were conf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vid Returns To Jerusalem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19:11-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chastised the tribe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sa appointed captain; removed Jo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n of Judah encouraged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started his journey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mei repented and granted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ba greeted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vid Returns To Jerusalem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am. 19:24-4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phibosheth met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d David why he did not follow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ry conflicted with Ziba’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favors Barzill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zillai was 80 years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ecided to stay in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son, Chimham went with Dav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srael was jealous of Judah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1:26:23Z</dcterms:created>
  <dc:creator>Terry W. Benton</dc:creator>
  <dc:description/>
  <dc:language>en-US</dc:language>
  <cp:lastModifiedBy>Frank D Vines</cp:lastModifiedBy>
  <dcterms:modified xsi:type="dcterms:W3CDTF">2005-07-18T12:38:42Z</dcterms:modified>
  <cp:revision>16</cp:revision>
  <dc:subject/>
  <dc:title>Give Us A King</dc:title>
</cp:coreProperties>
</file>